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8961-85A4-4CDC-83F3-17A7D4A32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6172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42720" y="5364720"/>
            <a:ext cx="6172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17B2-72E0-4026-91F1-698AB177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42720" y="536472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3505320" y="536472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F878-0F6C-4475-B17E-E1237432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29640" y="229248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16560" y="229248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42720" y="536472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429640" y="536472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4516560" y="536472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7AB5-A932-4C17-9489-26453A23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188E-A03C-4BC8-96DA-BB0DDF05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42720" y="2292480"/>
            <a:ext cx="6172200" cy="58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123E-F787-44EC-B796-85B16B6B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617220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A43F-CA5E-40A9-B73C-721FDED7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96F4-243B-4895-BD58-A8EF5E42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2F8C-0F5B-4575-8CF3-05E78ABA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43080" y="163440"/>
            <a:ext cx="5657760" cy="80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F368-96DF-4A35-88C4-577A9C9B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536472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B112-0944-4209-9F43-FEB4B3DE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342720" y="2292480"/>
            <a:ext cx="6172200" cy="58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78DD-C35D-4675-9CC6-C5D54893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505320" y="536472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7033-5488-49AC-BB40-D4540B64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42720" y="5364720"/>
            <a:ext cx="6172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199D-9675-43B5-8C58-AF9B3427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6172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42720" y="5364720"/>
            <a:ext cx="6172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E231-5D67-4416-ADFE-CEC5130C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2720" y="536472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505320" y="536472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B53E-DBAD-4778-AB91-C86D8B99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429640" y="229248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16560" y="229248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42720" y="536472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429640" y="536472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4516560" y="536472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2F97-D7FE-41CD-A834-A8F41165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617220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E77F-112A-4613-B6C1-027346CC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0D12-B662-4D7C-9A8F-D47E084C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701F-D20E-47EF-8217-F64C3120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43080" y="163440"/>
            <a:ext cx="5657760" cy="80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8468-570B-4885-BF4D-FAACA618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536472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FE0C-B669-40FF-8B60-65AA8611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505320" y="536472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0691-8438-45AB-843E-B8994F50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364720"/>
            <a:ext cx="6172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A15B-56D2-4FBD-9DA1-CF60B460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5972040" y="203040"/>
            <a:ext cx="0" cy="20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2292480"/>
            <a:ext cx="617220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CE11-F694-4A5F-AE8D-7A51862F8E3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6114960" y="203040"/>
            <a:ext cx="593280" cy="1726920"/>
            <a:chOff x="6114960" y="203040"/>
            <a:chExt cx="593280" cy="1726920"/>
          </a:xfrm>
        </p:grpSpPr>
        <p:sp>
          <p:nvSpPr>
            <p:cNvPr id="7" name="Oval 9"/>
            <p:cNvSpPr/>
            <p:nvPr/>
          </p:nvSpPr>
          <p:spPr>
            <a:xfrm>
              <a:off x="6114960" y="203040"/>
              <a:ext cx="89640" cy="159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6240600" y="203040"/>
              <a:ext cx="88920" cy="159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6366600" y="203040"/>
              <a:ext cx="87480" cy="159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6114960" y="426960"/>
              <a:ext cx="89640" cy="155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6240600" y="426960"/>
              <a:ext cx="88920" cy="155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6366600" y="426960"/>
              <a:ext cx="87480" cy="155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6492600" y="426960"/>
              <a:ext cx="87480" cy="155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6114960" y="650880"/>
              <a:ext cx="89640" cy="155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6240600" y="650880"/>
              <a:ext cx="88920" cy="155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6366600" y="650880"/>
              <a:ext cx="87480" cy="155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6492600" y="650880"/>
              <a:ext cx="87480" cy="155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6618600" y="650880"/>
              <a:ext cx="89640" cy="155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6114960" y="874800"/>
              <a:ext cx="89640" cy="159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6240600" y="874800"/>
              <a:ext cx="88920" cy="159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6366600" y="874800"/>
              <a:ext cx="87480" cy="159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6492600" y="874800"/>
              <a:ext cx="87480" cy="1598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6114960" y="1098720"/>
              <a:ext cx="89640" cy="159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6240600" y="1098720"/>
              <a:ext cx="88920" cy="159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366600" y="1098720"/>
              <a:ext cx="87480" cy="1598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6492600" y="1098720"/>
              <a:ext cx="87480" cy="1598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6618600" y="1098720"/>
              <a:ext cx="89640" cy="1598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6114960" y="1322640"/>
              <a:ext cx="89640" cy="1576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6240600" y="1322640"/>
              <a:ext cx="88920" cy="1576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6366600" y="1322640"/>
              <a:ext cx="87480" cy="1576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6492600" y="1322640"/>
              <a:ext cx="87480" cy="1576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6114960" y="1546560"/>
              <a:ext cx="89640" cy="155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6240600" y="1546560"/>
              <a:ext cx="88920" cy="155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6366600" y="1546560"/>
              <a:ext cx="87480" cy="155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6492600" y="1546560"/>
              <a:ext cx="87480" cy="155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6240600" y="1770480"/>
              <a:ext cx="88920" cy="1594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6492600" y="1770480"/>
              <a:ext cx="87480" cy="1594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5486400" y="1422360"/>
            <a:ext cx="0" cy="599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5619600" y="3989520"/>
            <a:ext cx="1002960" cy="2918520"/>
            <a:chOff x="5619600" y="3989520"/>
            <a:chExt cx="1002960" cy="2918520"/>
          </a:xfrm>
        </p:grpSpPr>
        <p:sp>
          <p:nvSpPr>
            <p:cNvPr id="76" name="Oval 9"/>
            <p:cNvSpPr/>
            <p:nvPr/>
          </p:nvSpPr>
          <p:spPr>
            <a:xfrm>
              <a:off x="5619600" y="3989520"/>
              <a:ext cx="15084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5832720" y="3989520"/>
              <a:ext cx="15084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6044400" y="3989520"/>
              <a:ext cx="15192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5619600" y="4368600"/>
              <a:ext cx="15084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5832720" y="4368600"/>
              <a:ext cx="15084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6044400" y="4368600"/>
              <a:ext cx="15192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6259680" y="4368600"/>
              <a:ext cx="151920" cy="26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5619600" y="4747320"/>
              <a:ext cx="15084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5832720" y="4747320"/>
              <a:ext cx="15084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6044400" y="4747320"/>
              <a:ext cx="151920" cy="26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6259680" y="4747320"/>
              <a:ext cx="151920" cy="26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6471720" y="4747320"/>
              <a:ext cx="150840" cy="26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5619600" y="5124240"/>
              <a:ext cx="15084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5832720" y="5124240"/>
              <a:ext cx="150840" cy="26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6044400" y="5124240"/>
              <a:ext cx="151920" cy="26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6259680" y="5124240"/>
              <a:ext cx="151920" cy="26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5619600" y="5502960"/>
              <a:ext cx="150840" cy="26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5832720" y="5502960"/>
              <a:ext cx="150840" cy="26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6044400" y="5502960"/>
              <a:ext cx="151920" cy="26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6259680" y="5502960"/>
              <a:ext cx="151920" cy="26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6471720" y="5502960"/>
              <a:ext cx="150840" cy="268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5619600" y="5882040"/>
              <a:ext cx="150840" cy="26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5832720" y="5882040"/>
              <a:ext cx="150840" cy="26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6044400" y="5882040"/>
              <a:ext cx="151920" cy="26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6259680" y="5882040"/>
              <a:ext cx="151920" cy="268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5619600" y="6260760"/>
              <a:ext cx="150840" cy="26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5832720" y="6260760"/>
              <a:ext cx="150840" cy="26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6044400" y="6260760"/>
              <a:ext cx="151920" cy="268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6259680" y="6260760"/>
              <a:ext cx="151920" cy="268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5832720" y="6639480"/>
              <a:ext cx="150840" cy="268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6259680" y="6639480"/>
              <a:ext cx="151920" cy="268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228600" y="3759120"/>
            <a:ext cx="6172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342720" y="2292480"/>
            <a:ext cx="617220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A418-75F5-4A65-8DFF-D785095F9C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9840" y="1714320"/>
            <a:ext cx="541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МИНИСТЕРСТВО СПОРТА РОССИИЙСКОЙ ФЕДЕРАЦИИ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ФГУ "ЦСП СБОРНЫХ КОМАНД РОССИИ"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ВСЕРОССИЙСКАЯ ФЕДЕРАЦИЯ ЛЕГКОЙ АТЛЕТИКИ </a:t>
            </a:r>
            <a:br>
              <a:rPr sz="1200"/>
            </a:b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89000" y="4065120"/>
            <a:ext cx="529272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убок России (многоборь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1-13.05.20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г.                              г. Адлер с/к «Юност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3080" y="1238400"/>
            <a:ext cx="5657760" cy="142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Кубок России (многоборья)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11-13.05.2015 г.                                  г. Адлер с/к «Юность»</a:t>
            </a: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                                                                          </a:t>
            </a:r>
            <a:br>
              <a:rPr sz="1400"/>
            </a:br>
            <a:br>
              <a:rPr sz="1600"/>
            </a:br>
            <a:br>
              <a:rPr sz="16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49360" y="3132000"/>
          <a:ext cx="6048360" cy="4322880"/>
        </p:xfrm>
        <a:graphic>
          <a:graphicData uri="http://schemas.openxmlformats.org/drawingml/2006/table">
            <a:tbl>
              <a:tblPr/>
              <a:tblGrid>
                <a:gridCol w="2173320"/>
                <a:gridCol w="1662120"/>
                <a:gridCol w="515880"/>
                <a:gridCol w="1697040"/>
              </a:tblGrid>
              <a:tr h="360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 Трубочк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 делегат ВФ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 Шуб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Пшенич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-на-Д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Пешк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екретар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Гапчен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вянск-на-Куба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Грудин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х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прыжк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Слепчен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-на-Д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3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Безъязыч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 по оборудова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Поч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-Петербур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571680" y="3143160"/>
          <a:ext cx="6048360" cy="4322880"/>
        </p:xfrm>
        <a:graphic>
          <a:graphicData uri="http://schemas.openxmlformats.org/drawingml/2006/table">
            <a:tbl>
              <a:tblPr/>
              <a:tblGrid>
                <a:gridCol w="2172960"/>
                <a:gridCol w="1662120"/>
                <a:gridCol w="516240"/>
                <a:gridCol w="1697040"/>
              </a:tblGrid>
              <a:tr h="360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 Трубочк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 делегат ВФ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 Шуб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Пшенич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-на-Д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Пешк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екретар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Гапчен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вянск-на-Куба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Грудин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х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прыжк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Слепчен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-на-Д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3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Безъязыч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 по оборудова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Поч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-Петербур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EUGENE</cp:lastModifiedBy>
  <cp:lastPrinted>2015-05-13T10:42:39Z</cp:lastPrinted>
  <dcterms:modified xsi:type="dcterms:W3CDTF">2015-05-13T18:09:58Z</dcterms:modified>
  <cp:revision>33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